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1A50-4357-47EE-A846-79F1A29966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EB267-8DF0-48B6-A8CE-EC8D2921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321163-756E-4A07-AFEE-30118243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3E1843-7593-4D37-A598-FBAE7D84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0D0E18-6EE8-4BEE-96FB-E2A0484D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56DC59-505E-4171-AF0F-6535C8F9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AE4E82-8C8E-4B4C-83A0-DB7E83C8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D1C27A-83E4-45CC-997D-FF0BA018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7DD9E3-A494-441C-A821-66C883A6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1F3724-496D-42DA-B0F0-0FCA8FC2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3BBD4A-28A9-45B8-838B-DCFA46D3EC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DAB26-AD52-4728-8AE6-9291DC311E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0CD2C-9336-4ADD-938B-E837730F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D2571-45ED-4C1F-A88F-2E5E0D3E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46E1D-F64A-4E4F-8E6C-E231EDBE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A1739-550D-43B1-994B-EBD8C5B7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5E7FA-6132-4A0F-8A67-72361908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7E3D3-E9D5-4B91-9BC4-00002B56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411F2-99B8-49D3-84B7-AB397F73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66C54-4F8E-4E98-84B4-67AC4F3C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A28E3-1052-4479-9756-899A6F3D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49AB9-E72E-4F92-9A79-4D24F17B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ADB6B-9D37-4ADB-9FE3-121BE759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624E7-B008-4D41-AD6F-72F06CD10F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C5CE6-D9C6-4D45-A88A-E5E9DCF704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5E32CB-4D8A-450D-B46E-FF5A0517E8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912A6B-201B-4BAE-9288-F270E96F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AC4ACE-603F-4863-A147-6BC04452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D323C5-63E2-48AA-817E-E63FD70A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055284-8C98-4767-AF2F-E5A6B280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F9DFE9-119E-464B-824A-7F6BE1B1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C73DB3-DB3C-45D9-8D5F-C41509A0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FE3720-6E2C-4254-B2A8-3F6D8668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F506A1-2564-4D20-83D3-05052CA8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016D4-2AFD-467E-BA62-01DB8621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E46503-0590-434C-B781-8EB7E4B6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674C23-415F-4801-A9FC-42D9046E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2AC3B6-A240-4979-ACF1-1B991C5C3C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610D70-0362-492D-BED2-A8B5E0B44A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72DA4-A4AD-48E3-BE70-32302242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4A89C8-C3FA-462A-98A5-BDD423B4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601AA-909D-498E-9F02-06FBE467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E09CC-9443-4B4F-BF3D-9AC6AF08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2B0F0-15FC-4363-B366-5F99A897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04C64-FD2F-4889-A03F-94C7F468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05E2C-70EB-4A01-BB8A-52B997AA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B3973-6CF6-41DA-A350-2432B52E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5F2485-182A-4172-B74C-07A90823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CBEA6-5D07-4722-92E6-C3364A06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15B83E-4548-4AD6-AD11-9FE7651B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B8F31C-5F5E-4F92-98D7-E567ECE7B6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EAD23-944D-4EE0-AAEC-03655B41A5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08B29-EF71-4765-BF4F-0CD57C38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EE69C-B89D-427A-A282-9E61A63C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C315A-711F-4767-BFD1-1459A252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C6670-0ABA-446A-B37C-6F795398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ED22D-A506-47CD-882D-F5E57762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5E51B-4A68-4EB9-B35A-5A314EFA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79372-9AE5-4D05-ACF3-BA2AAA24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E4685-77EE-4FFC-8830-4756FA45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45A6E-309E-4D3E-A1B7-46ADB642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86E3C-7321-4827-B3AF-4753CDF0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29411-3ADD-42CC-992B-967E8D37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DD782-39BD-4696-B6DB-0CF57E714A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9E297-C2DE-4B17-AA4A-565E7CFF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91BAA-7271-4DF4-AC2D-215BEC71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96DF2-049C-49BD-80B5-216A9545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605D0-FC94-4286-954F-1F78F9A6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B8AA9-36B0-4388-BB4D-81044198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F40AA-B120-4533-826A-513F5223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54F9C-1CA1-46CE-91ED-0C6B733A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70F68-3586-4F76-AD42-95D4F6BD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E06D8-2BE4-4981-BE3E-5BFE00E1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498EF-0841-4B69-A7D2-1F6F9263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2812B-738C-45B5-B308-CE3E6C07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461CF-9C40-4646-AF1F-4B568810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97CA5-A1A6-42EE-8706-F08BC934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310E2-4DFF-4205-B0D1-F17F661D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1E3C0-038B-4CEF-B061-A567AB28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C98A5-E7F5-4BDB-922D-1EAAFE61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63233-3ACA-4FC9-848C-EA74FECB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05489-3F5D-4F4B-B49A-51BD1370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DCC38-DD80-4B31-BB95-FBFAD1DB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AC8C9-49C3-4230-8151-DD02CAC4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21926-FF13-418A-B73B-4F920E21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A50B9-B268-46CF-B181-79A28771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DFE55-408E-4DFD-97AA-18BFC75B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4BA47-342F-4103-9320-7676EB79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C498B-2E70-41D5-B2E9-83770F1C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C69D2-F36A-4222-96F9-A0732B95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3A64E-EA51-45DD-AD70-99D9C993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EF615-E1C6-4940-BD93-B0DE4CE8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180A4-09ED-4A7C-9426-1610F47C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03D5F-47CF-4070-B799-099F2383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8F13E-9760-45D0-84FA-D88A124A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255C1-217F-440C-BE56-A338BF60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0781B-C379-46C1-84D5-CB3FAE38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A6824-8746-46F1-83B5-A14790FF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61F91-7DEB-499A-BA31-B6C4A7BA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2E7FA-F22D-476F-8708-ED61C5A8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A20F6-17F2-4622-888B-6001FC4C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E3AA2-09D2-4E9B-A9A8-3F1804F3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92E57-8F79-4D4C-9E43-0D20EFF6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A842C-757D-4850-8029-C072D105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7551BE-F264-4753-99E1-8639C32E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6A29A-D429-4426-AFFF-065609B5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7E997-2D46-4104-9DEE-3CDDBCF0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C9705-DCFE-4709-B11B-E209C87E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AA960-5853-4B93-8548-C7457E25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1278A8-D71A-4BAA-8E26-241C739B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31BA5-B3E7-4E10-B7EA-B6AE1DC5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04AB5-2E05-46EB-A417-6726B9AF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67171-2442-4482-88EC-CBFA0820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50B66-0514-4340-91C8-7F130011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841EA-38B0-4079-A7AB-AE67ABD1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490B1-C8D8-43BE-87A5-B2AEDAC6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8DC80-392E-42AC-A84F-1680FB0A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64455-53B2-41D9-B0EB-DB625935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0C63C-F965-4995-B693-0E924F96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DE81BD-1FDE-41BC-A995-A5AF8AC6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BC1109-4D16-481E-B6CA-0A886BAF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EFD919-3144-4FB3-B1A2-48248015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BD4219-4AD4-4988-9DCF-72C2C9A8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D8A50-8152-4869-BAFB-F078DD52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887A2D-E1F8-4E2D-8E4F-03CB5C60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6608A1-9B03-419B-8749-A3AB24C8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99A59-68BD-40E4-8127-9528C769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1D97FC-ED6A-45E8-8996-CDACA2EA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9BF396-4C18-42A5-A000-C5DEF1F0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9BA87-E189-4DCA-B9EA-0E792E12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4BAF5-327F-48A7-B5CC-77812176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73741F-0180-471B-A371-E5EEAD17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46AF66-50D8-412D-B911-0E151E08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B0B5E2-9EEB-4D92-ACC0-E50F3526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265A0-D41F-4036-9110-3E5A4306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FEF45B-BC3B-4800-8E31-15E68A46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9B3CD5-1B02-43B2-9D2F-05B3B737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91F77F-31AE-4A33-84C1-18D750D8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BA84B1-CE7C-4332-9491-95E81538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7E224E-A8CD-4104-B174-25068590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0B5B08-C3CC-46BD-8FED-02F684E4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40E276-4091-4283-B76B-7EB337C2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937C40-34FE-4CE1-9E66-7C2704D7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FB70F5-BB26-4EE7-8E9D-50166325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D5F693-85DB-45D6-8550-9FD07539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49E90-A283-4939-A7F3-33366B41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6CC28-558E-4548-8601-6B248E0C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5164F3-AA58-4119-A2E4-EDC20ADA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3ABA3A-A69B-4B2E-BD76-62AA3377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A6C85B-0935-4CF4-AC4E-85F11E3E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8DBDDB-3313-47F0-BC96-3CAE5274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1A4E83-1125-4BD5-BAE4-C9030E67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407A15-9FB3-4D05-B3EB-958C01F7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A6E8F7-FD07-43CB-9828-D39760C9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9444D2-7CEA-49F6-B5A0-95B289C0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9094AF-6C7A-447D-AEB3-49EE8650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9C691-A9AD-417B-9BDD-0660311B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C98F7-D834-47BD-8C2F-3B3A548B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DDB7BC-C737-4CFA-8BC7-435B3823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E2E9DF-AD88-4F82-93D2-E2864D89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8BF99B-7B73-4F62-9459-E105DA8D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87D452-D10C-45BB-9FA0-52AA321A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62467D-34A9-4A77-AC5E-9A46D421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AF164A-BB91-4639-9E64-D27DD6E0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A5D763-A32C-4944-BF7F-ED329264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B63F15-56CA-463F-88D4-6A398F0A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B4A54F-4E94-42A5-8647-3D7D9211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FCA5DA-6388-44A1-97E6-883C458CBF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B2B9FA-BC31-4E6C-B61D-DC1889BE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055AF-4534-4933-9B32-2150AEFC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27D27D-1695-46C3-91E7-01D1EF38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2E250F-0A4E-465E-A327-3BFCF791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877926-52CE-4D97-874A-DBC3F2C9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F8BE09-FB6E-43F6-B5AB-D14CDFD3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57EB68-AA8A-41A4-A9CC-EA649C62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347CE8-7C4E-4858-9245-E2191067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9A07F8-E6B9-49BE-8FE3-517A1B97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9A46E-2290-45C7-BA9D-B3AED9C1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753427-B77A-43CB-B456-2BF04197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0509F3-1AAE-4F8B-BA32-BE4411DE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A977A2-BED9-4ACE-A4BB-86A739C9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B7B9CA-78C6-4525-8194-A4251A78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6FF17E-072C-46C7-B8CB-DFF103FC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F1F432-2F68-48D4-8526-AC9075D4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C1D1E0-4B00-47DF-A8EB-B242AC5F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5CE5D7-2A42-4244-9C95-5862913C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425BF3-F054-4195-9409-727EA1A1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399806-E16A-45E4-AD98-181B5FE9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A4CB1F-8CB7-47D8-9F5B-2DA883EA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03C529-097E-495F-9712-7987A733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15EEA3-FF6A-4D30-A33D-059D1B85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800D7B-47AC-49BB-9F05-DD05A8FC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7FEE76-1300-4211-8F9F-F2672DB4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2DF85D-5EFF-4D27-8D96-45078039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DEB9A1-2AE4-44CD-819D-5EAC1698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8AABD9-6B92-41AF-A198-6B21566C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C1B5B1-FC5F-4E2C-934F-3F82BA85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7B7CE6-2DE0-49DE-A714-F75A55FE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222E9F-42F6-4391-B00B-B666AE67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C5E376-A312-4845-8DE7-67021957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CC0B0B-D4E6-41B1-881E-332D392A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9BF178-3B06-417F-B932-1D854CFC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06D26C-AA1F-4CA1-A36C-1C2CD720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FB2624-28A9-4937-8ACD-465360B8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26B8DA-31F3-4777-80B1-A06237D5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B1C6E7-E0BA-47B2-9368-192A08FA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BA302E-4210-43FF-B08A-B8A85D8F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62B520-5C93-4BAE-89D8-F1BCAE99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8ACAFB-7CEA-4549-BD2C-7CDAE7A0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C1BE4C-FFB2-4147-9E2A-BBED3417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9D2D2E-0097-4A99-9558-8D394C98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2F4A9-5238-4C74-A1F7-C8D8EFEE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A1BEA3-99CB-4389-9182-D2988106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70EB6B-F3EF-4A41-940A-30B35B2B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C50B42-B659-47DA-A629-23718BD5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1A19D4-548D-4ABE-9017-D9344FE3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B81339-BB8D-4FF4-986A-CC4DF93F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990679-C271-4832-9D61-E8CD79DE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7D0D7B-C8BC-4B91-991F-1FECDFA8EA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3AEA8-F434-4B82-90E4-CE87BDCEE2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88B2C-9DB4-4E26-810A-7614C6AB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28B09-584C-455D-B8A2-77D723F5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D37AB-ACAD-4F66-8277-FDDD0CDF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21C07-EB01-41E2-906A-270CA415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6D6C4-F66C-409A-B936-B0305B95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79F95-ACC8-4F0E-893A-CE380E18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D52D4-D215-45C7-B7E3-29303CD6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3556A-F7FF-4DFA-83FA-299574B6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8C7AC-4537-4761-8BEA-BF48D095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14D2-107F-47CB-972E-DFD11D9C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21A5D-2C43-4E52-82B6-B85326BA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D2530-6304-41EF-ADBF-E552C52491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D6B451-039A-4627-ABD9-FAFA1E2219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7469A-7721-48CE-B57F-CF6913F1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0172EB-0D53-4581-8CB7-84C2802C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38C94C-5A17-4E7F-92D4-8D7C4476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A689C9-C592-4249-993C-03018959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0B9B40-E1A9-49E0-9A06-05D23042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967FD9-5DA1-4DFC-B759-88C1118B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82C21C-26D0-4582-B8E3-6309623A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8D47F4-664D-43F1-B80B-38478276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6EEDED-3035-4856-9D8E-0CDB237E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94C095-8076-4816-BA95-ABA4D03C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6D9BF3-C0DA-4EE4-A9FE-E538B64E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185AB-995A-449C-B331-5A8A0F0F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B51408-184B-486F-BA6F-52BA04C371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E256F1-30F9-457A-92A7-4CDD55018F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2A8E60-6AD9-4BC3-AC84-8E6AFAD9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F58D89-CEF7-4DB5-8414-E9FA36BC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7F2990-0D30-4922-8986-82B6096E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B3B809-2E66-45CF-8CE5-D333929A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738E36-783B-4AB5-A15C-DC79E3A8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56A536-91FB-46A0-8362-1BEA2B0D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3DC533-812A-4BB8-92D4-B26574AE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D0637B-F836-4209-A861-4239A079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1A2D6-E5EB-470D-A9AE-5BB1F52E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DAB9B6-FDB6-461B-A433-1AB11A56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518D53-D5C3-4D27-8178-47DFF502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244133-8841-4292-BB9C-EA68F1EA4B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4BF64-3CFE-4A77-A0EE-4A6790D669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2B1E8-E707-4E15-8C44-549AB1BF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E921E-3775-4A2A-8614-B57ED32C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661D5-A35C-4015-AAC1-E594803B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51C56-2CB5-4970-8E82-A8F0A94F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C1FD6-A54D-4312-9696-BBC70C2E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6F5F6-6060-4E21-BC2E-8A39C74E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B561A-4619-4CA2-AC47-B0A3AAB5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AC691-E072-4792-9989-8B3C321B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59473-BD47-4FAA-A383-C258F8F5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ABF6D-FF6F-4BA2-A2D6-9395BB26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A32D7-8584-44B8-A544-EE1E47D8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B2E55-D9E9-47E0-AB13-549C2BB96E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042FC3-0892-408C-8FFE-58B6A3FD64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894DDD-25A5-405E-92DD-FD0DF8F5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FD6CE5-F166-4768-AB98-64E08167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4E7834-D945-4D3C-A073-68090CAD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0525E9-ED4D-493F-ACC3-FB00625A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85E4-662C-4831-A6F3-7C2E18C9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0CA175-1CE8-457B-B37B-546EB8CA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4CF58E-2AF9-49D5-B596-C8AEEFAA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64CF44-2BCA-415E-B6D1-10E82812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A13DDC-B6D1-4EFD-B226-5C517D89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746C48-B5A7-47B3-AD54-B9C1ADF9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8462FF-8310-43C9-AA4A-F0A649A7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5AC1E7-A01D-4880-8BCE-624810A7E8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836CF1-86EF-4176-B24D-8ABA12B8AC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66A34A-560B-4726-B38A-45061B7E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B02C95-56FB-4958-9962-686B7E0D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1BC6-7C35-47AA-8646-17D1A10E518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AF98-2B2C-4444-B268-A3F68636497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76D7-DAD8-4414-B592-A18B39E1424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4FCC-2F09-453C-9380-6ADAC5CFEEE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A292-4146-4104-9BCC-497C18196D5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BD9B-DE6E-4824-BEDA-32814C6EF0E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28CB-AF8A-492F-B66A-E5F10063155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483B-3B85-4262-B8A2-DEF43AB0292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0EC3-9616-4C01-A50F-7CECDBCD51B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451F-0726-4705-8933-575137EE345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5FD7-FCD4-4C40-8864-BBEED302167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2DEA-BEBD-4C76-9E61-14C792FDE28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41BC-0B11-4F8C-A3FD-298C8446DE1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E41F-4C99-4E8D-8FD6-EF197EBA390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7845-FDB2-47BB-9DF4-5F18C1C31BA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631D-6869-461A-AC71-F9654E1DD20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65BE-17D4-4411-A51D-4EBF8DF3471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BA54-E885-4D1D-8A45-BB3BA1EDB81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D229-4F20-419B-B690-E08ECDE238D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3322-F1DE-4BD4-B43D-5D3D2A542E7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8560-4FC0-4043-8937-5DE728A3139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A137-BD89-4526-90BB-84AD7A1D3EF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267B-07AB-4185-93C7-C958E2DC32E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B657-C9B1-4630-B781-E55E1FE4A2D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008160" y="2798640"/>
            <a:ext cx="55908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2736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认 识 角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384200" y="1744560"/>
            <a:ext cx="91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角的初步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57240"/>
            <a:ext cx="5143680" cy="525240"/>
            <a:chOff x="0" y="57240"/>
            <a:chExt cx="5143680" cy="525240"/>
          </a:xfrm>
        </p:grpSpPr>
        <p:pic>
          <p:nvPicPr>
            <p:cNvPr id="999" name="圆角矩形 7" descr=""/>
            <p:cNvPicPr/>
            <p:nvPr/>
          </p:nvPicPr>
          <p:blipFill>
            <a:blip r:embed="rId1"/>
            <a:stretch/>
          </p:blipFill>
          <p:spPr>
            <a:xfrm>
              <a:off x="255600" y="57240"/>
              <a:ext cx="4888080" cy="52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51920"/>
              <a:ext cx="687960" cy="273600"/>
              <a:chOff x="0" y="151920"/>
              <a:chExt cx="687960" cy="273600"/>
            </a:xfrm>
          </p:grpSpPr>
          <p:sp>
            <p:nvSpPr>
              <p:cNvPr id="1001" name="椭圆 9"/>
              <p:cNvSpPr/>
              <p:nvPr/>
            </p:nvSpPr>
            <p:spPr>
              <a:xfrm rot="16200000">
                <a:off x="280080" y="304560"/>
                <a:ext cx="105840" cy="13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47840" y="237600"/>
                <a:ext cx="24012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80080" y="169200"/>
                <a:ext cx="105840" cy="13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447840" y="161640"/>
                <a:ext cx="2401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48400"/>
                <a:ext cx="609840" cy="6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29680"/>
                <a:ext cx="609840" cy="6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170640"/>
                <a:ext cx="609840" cy="6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51920"/>
                <a:ext cx="609840" cy="6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9" name="Picture 5" descr="D:\我的文档-桌面-收藏夹\桌面\剪刀.jpg"/>
          <p:cNvPicPr/>
          <p:nvPr/>
        </p:nvPicPr>
        <p:blipFill>
          <a:blip r:embed="rId8"/>
          <a:srcRect l="0" t="0" r="0" b="5225"/>
          <a:stretch/>
        </p:blipFill>
        <p:spPr>
          <a:xfrm flipH="1" rot="798000">
            <a:off x="1221480" y="1572840"/>
            <a:ext cx="1540080" cy="99540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D:\我的文档-桌面-收藏夹\桌面\钟面.jpg"/>
          <p:cNvPicPr/>
          <p:nvPr/>
        </p:nvPicPr>
        <p:blipFill>
          <a:blip r:embed="rId9"/>
          <a:srcRect l="4129" t="4490" r="2039" b="2423"/>
          <a:stretch/>
        </p:blipFill>
        <p:spPr>
          <a:xfrm>
            <a:off x="3774960" y="1590840"/>
            <a:ext cx="1339920" cy="9363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3" descr="D:\我的文档-桌面-收藏夹\桌面\000000000103994413_3.jpg"/>
          <p:cNvPicPr/>
          <p:nvPr/>
        </p:nvPicPr>
        <p:blipFill>
          <a:blip r:embed="rId10"/>
          <a:stretch/>
        </p:blipFill>
        <p:spPr>
          <a:xfrm>
            <a:off x="5992920" y="1338120"/>
            <a:ext cx="1436760" cy="1436760"/>
          </a:xfrm>
          <a:prstGeom prst="rect">
            <a:avLst/>
          </a:prstGeom>
          <a:ln w="0">
            <a:noFill/>
          </a:ln>
        </p:spPr>
      </p:pic>
      <p:sp>
        <p:nvSpPr>
          <p:cNvPr id="1012" name="TextBox 5"/>
          <p:cNvSpPr/>
          <p:nvPr/>
        </p:nvSpPr>
        <p:spPr>
          <a:xfrm>
            <a:off x="1120680" y="871560"/>
            <a:ext cx="3000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这些物品中都有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32"/>
          <p:cNvSpPr/>
          <p:nvPr/>
        </p:nvSpPr>
        <p:spPr>
          <a:xfrm>
            <a:off x="646200" y="4987800"/>
            <a:ext cx="8001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上面的图形都是角。一个角有几个顶点？有几条边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5"/>
          <p:cNvSpPr/>
          <p:nvPr/>
        </p:nvSpPr>
        <p:spPr>
          <a:xfrm>
            <a:off x="646200" y="71280"/>
            <a:ext cx="5286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一、生活引入，揭示课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八边形 14"/>
          <p:cNvSpPr/>
          <p:nvPr/>
        </p:nvSpPr>
        <p:spPr>
          <a:xfrm>
            <a:off x="385920" y="85104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组合 25"/>
          <p:cNvGrpSpPr/>
          <p:nvPr/>
        </p:nvGrpSpPr>
        <p:grpSpPr>
          <a:xfrm>
            <a:off x="1417320" y="2665440"/>
            <a:ext cx="844920" cy="1766520"/>
            <a:chOff x="1417320" y="2665440"/>
            <a:chExt cx="844920" cy="1766520"/>
          </a:xfrm>
        </p:grpSpPr>
        <p:grpSp>
          <p:nvGrpSpPr>
            <p:cNvPr id="1017" name="组合 13"/>
            <p:cNvGrpSpPr/>
            <p:nvPr/>
          </p:nvGrpSpPr>
          <p:grpSpPr>
            <a:xfrm>
              <a:off x="1417320" y="3928320"/>
              <a:ext cx="844920" cy="503640"/>
              <a:chOff x="1417320" y="3928320"/>
              <a:chExt cx="844920" cy="503640"/>
            </a:xfrm>
          </p:grpSpPr>
          <p:sp>
            <p:nvSpPr>
              <p:cNvPr id="1018" name="直接连接符 8"/>
              <p:cNvSpPr/>
              <p:nvPr/>
            </p:nvSpPr>
            <p:spPr>
              <a:xfrm flipH="1">
                <a:off x="1417320" y="3928320"/>
                <a:ext cx="772920" cy="271080"/>
              </a:xfrm>
              <a:prstGeom prst="line">
                <a:avLst/>
              </a:prstGeom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直接连接符 10"/>
              <p:cNvSpPr/>
              <p:nvPr/>
            </p:nvSpPr>
            <p:spPr>
              <a:xfrm flipH="1" flipV="1">
                <a:off x="1417680" y="4199040"/>
                <a:ext cx="844560" cy="232920"/>
              </a:xfrm>
              <a:prstGeom prst="line">
                <a:avLst/>
              </a:prstGeom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20" name="直接箭头连接符 20"/>
            <p:cNvCxnSpPr/>
            <p:nvPr/>
          </p:nvCxnSpPr>
          <p:spPr>
            <a:xfrm>
              <a:off x="1886760" y="2665440"/>
              <a:ext cx="1080" cy="640080"/>
            </a:xfrm>
            <a:prstGeom prst="straightConnector1">
              <a:avLst/>
            </a:prstGeom>
            <a:ln w="15840">
              <a:solidFill>
                <a:srgbClr val="ccccff"/>
              </a:solidFill>
              <a:miter/>
              <a:tailEnd len="med" type="arrow" w="med"/>
            </a:ln>
          </p:spPr>
        </p:cxnSp>
      </p:grpSp>
      <p:grpSp>
        <p:nvGrpSpPr>
          <p:cNvPr id="1021" name="组合 26"/>
          <p:cNvGrpSpPr/>
          <p:nvPr/>
        </p:nvGrpSpPr>
        <p:grpSpPr>
          <a:xfrm>
            <a:off x="4398480" y="2665440"/>
            <a:ext cx="459000" cy="2123640"/>
            <a:chOff x="4398480" y="2665440"/>
            <a:chExt cx="459000" cy="2123640"/>
          </a:xfrm>
        </p:grpSpPr>
        <p:grpSp>
          <p:nvGrpSpPr>
            <p:cNvPr id="1022" name="组合 19"/>
            <p:cNvGrpSpPr/>
            <p:nvPr/>
          </p:nvGrpSpPr>
          <p:grpSpPr>
            <a:xfrm>
              <a:off x="4398480" y="3773880"/>
              <a:ext cx="459000" cy="1015200"/>
              <a:chOff x="4398480" y="3773880"/>
              <a:chExt cx="459000" cy="1015200"/>
            </a:xfrm>
          </p:grpSpPr>
          <p:sp>
            <p:nvSpPr>
              <p:cNvPr id="1023" name="直接连接符 16"/>
              <p:cNvSpPr/>
              <p:nvPr/>
            </p:nvSpPr>
            <p:spPr>
              <a:xfrm flipH="1">
                <a:off x="4398480" y="3773880"/>
                <a:ext cx="459000" cy="263520"/>
              </a:xfrm>
              <a:prstGeom prst="line">
                <a:avLst/>
              </a:prstGeom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直接连接符 18"/>
              <p:cNvSpPr/>
              <p:nvPr/>
            </p:nvSpPr>
            <p:spPr>
              <a:xfrm flipV="1">
                <a:off x="4398840" y="4037400"/>
                <a:ext cx="0" cy="751680"/>
              </a:xfrm>
              <a:prstGeom prst="line">
                <a:avLst/>
              </a:prstGeom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25" name="直接箭头连接符 21"/>
            <p:cNvCxnSpPr/>
            <p:nvPr/>
          </p:nvCxnSpPr>
          <p:spPr>
            <a:xfrm>
              <a:off x="4430520" y="2665440"/>
              <a:ext cx="1080" cy="640080"/>
            </a:xfrm>
            <a:prstGeom prst="straightConnector1">
              <a:avLst/>
            </a:prstGeom>
            <a:ln w="15840">
              <a:solidFill>
                <a:srgbClr val="ccccff"/>
              </a:solidFill>
              <a:miter/>
              <a:tailEnd len="med" type="arrow" w="med"/>
            </a:ln>
          </p:spPr>
        </p:cxnSp>
      </p:grpSp>
      <p:grpSp>
        <p:nvGrpSpPr>
          <p:cNvPr id="1026" name="组合 27"/>
          <p:cNvGrpSpPr/>
          <p:nvPr/>
        </p:nvGrpSpPr>
        <p:grpSpPr>
          <a:xfrm>
            <a:off x="6000480" y="2665440"/>
            <a:ext cx="1285920" cy="1761480"/>
            <a:chOff x="6000480" y="2665440"/>
            <a:chExt cx="1285920" cy="1761480"/>
          </a:xfrm>
        </p:grpSpPr>
        <p:grpSp>
          <p:nvGrpSpPr>
            <p:cNvPr id="1027" name="组合 27"/>
            <p:cNvGrpSpPr/>
            <p:nvPr/>
          </p:nvGrpSpPr>
          <p:grpSpPr>
            <a:xfrm>
              <a:off x="6000480" y="3887280"/>
              <a:ext cx="1285920" cy="539640"/>
              <a:chOff x="6000480" y="3887280"/>
              <a:chExt cx="1285920" cy="539640"/>
            </a:xfrm>
          </p:grpSpPr>
          <p:sp>
            <p:nvSpPr>
              <p:cNvPr id="1028" name="直接连接符 22"/>
              <p:cNvSpPr/>
              <p:nvPr/>
            </p:nvSpPr>
            <p:spPr>
              <a:xfrm flipH="1">
                <a:off x="6000480" y="3887280"/>
                <a:ext cx="785880" cy="539640"/>
              </a:xfrm>
              <a:prstGeom prst="line">
                <a:avLst/>
              </a:prstGeom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直接连接符 23"/>
              <p:cNvSpPr/>
              <p:nvPr/>
            </p:nvSpPr>
            <p:spPr>
              <a:xfrm flipH="1" flipV="1">
                <a:off x="6786360" y="3888000"/>
                <a:ext cx="500040" cy="501840"/>
              </a:xfrm>
              <a:prstGeom prst="line">
                <a:avLst/>
              </a:prstGeom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30" name="直接箭头连接符 24"/>
            <p:cNvCxnSpPr/>
            <p:nvPr/>
          </p:nvCxnSpPr>
          <p:spPr>
            <a:xfrm>
              <a:off x="6749640" y="2665440"/>
              <a:ext cx="1080" cy="640080"/>
            </a:xfrm>
            <a:prstGeom prst="straightConnector1">
              <a:avLst/>
            </a:prstGeom>
            <a:ln w="15840">
              <a:solidFill>
                <a:srgbClr val="ccccff"/>
              </a:solidFill>
              <a:miter/>
              <a:tailEnd len="med" type="arrow" w="med"/>
            </a:ln>
          </p:spPr>
        </p:cxnSp>
      </p:grpSp>
      <p:pic>
        <p:nvPicPr>
          <p:cNvPr id="1031" name="图片 28" descr=""/>
          <p:cNvPicPr/>
          <p:nvPr/>
        </p:nvPicPr>
        <p:blipFill>
          <a:blip r:embed="rId11"/>
          <a:stretch/>
        </p:blipFill>
        <p:spPr>
          <a:xfrm rot="19380000">
            <a:off x="4603320" y="2212560"/>
            <a:ext cx="1019160" cy="49860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32" descr=""/>
          <p:cNvPicPr/>
          <p:nvPr/>
        </p:nvPicPr>
        <p:blipFill>
          <a:blip r:embed="rId12"/>
          <a:stretch/>
        </p:blipFill>
        <p:spPr>
          <a:xfrm flipH="1" rot="2220000">
            <a:off x="3150360" y="2196720"/>
            <a:ext cx="1019160" cy="496800"/>
          </a:xfrm>
          <a:prstGeom prst="rect">
            <a:avLst/>
          </a:prstGeom>
          <a:ln w="0">
            <a:noFill/>
          </a:ln>
        </p:spPr>
      </p:pic>
      <p:sp>
        <p:nvSpPr>
          <p:cNvPr id="1033" name="文本框 35"/>
          <p:cNvSpPr/>
          <p:nvPr/>
        </p:nvSpPr>
        <p:spPr>
          <a:xfrm>
            <a:off x="1184400" y="559908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一个角有一个顶点，两条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组合 2"/>
          <p:cNvGrpSpPr/>
          <p:nvPr/>
        </p:nvGrpSpPr>
        <p:grpSpPr>
          <a:xfrm>
            <a:off x="-142920" y="101520"/>
            <a:ext cx="5180040" cy="527040"/>
            <a:chOff x="-142920" y="101520"/>
            <a:chExt cx="5180040" cy="527040"/>
          </a:xfrm>
        </p:grpSpPr>
        <p:pic>
          <p:nvPicPr>
            <p:cNvPr id="1035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14480" y="101520"/>
              <a:ext cx="4922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6" name="组合 4"/>
            <p:cNvGrpSpPr/>
            <p:nvPr/>
          </p:nvGrpSpPr>
          <p:grpSpPr>
            <a:xfrm>
              <a:off x="-142920" y="196560"/>
              <a:ext cx="692640" cy="274320"/>
              <a:chOff x="-142920" y="196560"/>
              <a:chExt cx="692640" cy="274320"/>
            </a:xfrm>
          </p:grpSpPr>
          <p:sp>
            <p:nvSpPr>
              <p:cNvPr id="1037" name="椭圆 2"/>
              <p:cNvSpPr/>
              <p:nvPr/>
            </p:nvSpPr>
            <p:spPr>
              <a:xfrm rot="16200000">
                <a:off x="138600" y="349560"/>
                <a:ext cx="106200" cy="13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8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309240" y="282240"/>
                <a:ext cx="2404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椭圆 29"/>
              <p:cNvSpPr/>
              <p:nvPr/>
            </p:nvSpPr>
            <p:spPr>
              <a:xfrm rot="16200000">
                <a:off x="138600" y="213480"/>
                <a:ext cx="106200" cy="13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309240" y="206280"/>
                <a:ext cx="24048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42920" y="293400"/>
                <a:ext cx="614520" cy="6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6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2920" y="274320"/>
                <a:ext cx="614520" cy="6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142920" y="215280"/>
                <a:ext cx="614520" cy="6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142920" y="196560"/>
                <a:ext cx="614520" cy="6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5" name="直接连接符 12"/>
          <p:cNvSpPr/>
          <p:nvPr/>
        </p:nvSpPr>
        <p:spPr>
          <a:xfrm flipV="1">
            <a:off x="5929200" y="1428480"/>
            <a:ext cx="100008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3"/>
          <p:cNvSpPr/>
          <p:nvPr/>
        </p:nvSpPr>
        <p:spPr>
          <a:xfrm>
            <a:off x="214200" y="852480"/>
            <a:ext cx="8715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从一个点起，用尺子向不同的方向画两条笔直的线，就画成一个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直接连接符 5"/>
          <p:cNvSpPr/>
          <p:nvPr/>
        </p:nvSpPr>
        <p:spPr>
          <a:xfrm>
            <a:off x="1928880" y="2214720"/>
            <a:ext cx="1571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右箭头 9"/>
          <p:cNvSpPr/>
          <p:nvPr/>
        </p:nvSpPr>
        <p:spPr>
          <a:xfrm>
            <a:off x="4000680" y="2143080"/>
            <a:ext cx="1500120" cy="1429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直接连接符 10"/>
          <p:cNvSpPr/>
          <p:nvPr/>
        </p:nvSpPr>
        <p:spPr>
          <a:xfrm>
            <a:off x="5929200" y="2214720"/>
            <a:ext cx="1214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Box 20"/>
          <p:cNvSpPr/>
          <p:nvPr/>
        </p:nvSpPr>
        <p:spPr>
          <a:xfrm>
            <a:off x="652320" y="3286080"/>
            <a:ext cx="6500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说一说周围哪些动物的表面上有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按照例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的方法，自己画出一个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Box 21"/>
          <p:cNvSpPr/>
          <p:nvPr/>
        </p:nvSpPr>
        <p:spPr>
          <a:xfrm>
            <a:off x="1644480" y="3733920"/>
            <a:ext cx="3143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Calibri"/>
                <a:ea typeface="宋体"/>
              </a:rPr>
              <a:t>羊、牛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23"/>
          <p:cNvSpPr/>
          <p:nvPr/>
        </p:nvSpPr>
        <p:spPr>
          <a:xfrm flipV="1">
            <a:off x="1920960" y="4932360"/>
            <a:ext cx="1143000" cy="57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直接连接符 24"/>
          <p:cNvSpPr/>
          <p:nvPr/>
        </p:nvSpPr>
        <p:spPr>
          <a:xfrm>
            <a:off x="1920960" y="5497560"/>
            <a:ext cx="1071360" cy="50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5"/>
          <p:cNvSpPr/>
          <p:nvPr/>
        </p:nvSpPr>
        <p:spPr>
          <a:xfrm>
            <a:off x="573120" y="71280"/>
            <a:ext cx="5286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二、抽象图形，形成表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八边形 8"/>
          <p:cNvSpPr/>
          <p:nvPr/>
        </p:nvSpPr>
        <p:spPr>
          <a:xfrm>
            <a:off x="385920" y="70812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57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8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59" name="椭圆 1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0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1" name="椭圆 2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4" name="圆角矩形 5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67" name="Picture 1" descr="D:\我的文档-桌面-收藏夹\桌面\REJA29.tif"/>
          <p:cNvPicPr/>
          <p:nvPr/>
        </p:nvPicPr>
        <p:blipFill>
          <a:blip r:embed="rId8"/>
          <a:stretch/>
        </p:blipFill>
        <p:spPr>
          <a:xfrm>
            <a:off x="1071720" y="1641600"/>
            <a:ext cx="6429240" cy="2651040"/>
          </a:xfrm>
          <a:prstGeom prst="rect">
            <a:avLst/>
          </a:prstGeom>
          <a:ln w="0">
            <a:noFill/>
          </a:ln>
        </p:spPr>
      </p:pic>
      <p:sp>
        <p:nvSpPr>
          <p:cNvPr id="1068" name="TextBox 3"/>
          <p:cNvSpPr/>
          <p:nvPr/>
        </p:nvSpPr>
        <p:spPr>
          <a:xfrm>
            <a:off x="714240" y="855720"/>
            <a:ext cx="507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判断哪些是角，哪些不是角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4"/>
          <p:cNvSpPr/>
          <p:nvPr/>
        </p:nvSpPr>
        <p:spPr>
          <a:xfrm>
            <a:off x="2428920" y="4784760"/>
            <a:ext cx="4191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Calibri"/>
                <a:ea typeface="宋体"/>
              </a:rPr>
              <a:t>①</a:t>
            </a:r>
            <a:r>
              <a:rPr b="0" lang="zh-CN" sz="2500" spc="-1" strike="noStrike">
                <a:solidFill>
                  <a:srgbClr val="ff0000"/>
                </a:solidFill>
                <a:latin typeface="Calibri"/>
                <a:ea typeface="宋体"/>
              </a:rPr>
              <a:t>、③、⑤、⑦、⑧是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Calibri"/>
                <a:ea typeface="宋体"/>
              </a:rPr>
              <a:t>② </a:t>
            </a:r>
            <a:r>
              <a:rPr b="0" lang="zh-CN" sz="2500" spc="-1" strike="noStrike">
                <a:solidFill>
                  <a:srgbClr val="ff0000"/>
                </a:solidFill>
                <a:latin typeface="Calibri"/>
                <a:ea typeface="宋体"/>
              </a:rPr>
              <a:t>、④ 、⑥不是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Box 5"/>
          <p:cNvSpPr/>
          <p:nvPr/>
        </p:nvSpPr>
        <p:spPr>
          <a:xfrm>
            <a:off x="717480" y="69840"/>
            <a:ext cx="385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三、巩固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 txBox="1"/>
          <p:nvPr/>
        </p:nvSpPr>
        <p:spPr>
          <a:xfrm>
            <a:off x="457200" y="87804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我会填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一个角是由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个顶点和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条边组成的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三角形有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个顶点，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条边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正方形有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个顶点，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个角，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条边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个点起，用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向不同的方向画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条直线，就画成一个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角的大小与角的两条边叉开的大小（      ）关系，两边叉开的越大，角就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73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4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75" name="椭圆 1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6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7" name="椭圆 2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0" name="圆角矩形 5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3" name="文本框 4"/>
          <p:cNvSpPr/>
          <p:nvPr/>
        </p:nvSpPr>
        <p:spPr>
          <a:xfrm>
            <a:off x="2817720" y="169704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6"/>
          <p:cNvSpPr/>
          <p:nvPr/>
        </p:nvSpPr>
        <p:spPr>
          <a:xfrm>
            <a:off x="4924440" y="16970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文本框 8"/>
          <p:cNvSpPr/>
          <p:nvPr/>
        </p:nvSpPr>
        <p:spPr>
          <a:xfrm>
            <a:off x="2438280" y="2303640"/>
            <a:ext cx="3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文本框 9"/>
          <p:cNvSpPr/>
          <p:nvPr/>
        </p:nvSpPr>
        <p:spPr>
          <a:xfrm>
            <a:off x="4703760" y="23036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文本框 10"/>
          <p:cNvSpPr/>
          <p:nvPr/>
        </p:nvSpPr>
        <p:spPr>
          <a:xfrm>
            <a:off x="2511360" y="292104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文本框 11"/>
          <p:cNvSpPr/>
          <p:nvPr/>
        </p:nvSpPr>
        <p:spPr>
          <a:xfrm>
            <a:off x="4768920" y="2921040"/>
            <a:ext cx="3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文本框 12"/>
          <p:cNvSpPr/>
          <p:nvPr/>
        </p:nvSpPr>
        <p:spPr>
          <a:xfrm>
            <a:off x="6778800" y="29210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文本框 13"/>
          <p:cNvSpPr/>
          <p:nvPr/>
        </p:nvSpPr>
        <p:spPr>
          <a:xfrm>
            <a:off x="1371600" y="35481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文本框 14"/>
          <p:cNvSpPr/>
          <p:nvPr/>
        </p:nvSpPr>
        <p:spPr>
          <a:xfrm>
            <a:off x="3970440" y="355932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尺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文本框 15"/>
          <p:cNvSpPr/>
          <p:nvPr/>
        </p:nvSpPr>
        <p:spPr>
          <a:xfrm>
            <a:off x="7640640" y="35481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文本框 16"/>
          <p:cNvSpPr/>
          <p:nvPr/>
        </p:nvSpPr>
        <p:spPr>
          <a:xfrm>
            <a:off x="4097160" y="4165560"/>
            <a:ext cx="3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17"/>
          <p:cNvSpPr/>
          <p:nvPr/>
        </p:nvSpPr>
        <p:spPr>
          <a:xfrm>
            <a:off x="6715080" y="47577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文本框 18"/>
          <p:cNvSpPr/>
          <p:nvPr/>
        </p:nvSpPr>
        <p:spPr>
          <a:xfrm>
            <a:off x="4476600" y="5372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Box 5"/>
          <p:cNvSpPr/>
          <p:nvPr/>
        </p:nvSpPr>
        <p:spPr>
          <a:xfrm>
            <a:off x="717480" y="69840"/>
            <a:ext cx="385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四、课后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08:22:00Z</dcterms:created>
  <dc:creator/>
  <dc:description/>
  <dc:language>en-US</dc:language>
  <cp:lastModifiedBy>万润仪器贸易公司</cp:lastModifiedBy>
  <dcterms:modified xsi:type="dcterms:W3CDTF">2020-08-21T00:43:01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